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A27-E5E2-45AB-96B5-EBD10E21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90C-2916-4FE6-8E91-A32A33CD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250-A014-49CF-8E6A-224CE0EC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EC0-4167-4FD4-B195-218ED84B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691-9D0F-4C0F-904B-4BCA9120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DC9-926C-48EB-A4FB-ABA316CC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303-CBC8-4FFD-B766-6D9BB1A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4C6-552A-4FA7-889B-1D93E450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1C0-97D0-41B8-8019-8CDC00EE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F97-3A70-4438-9E86-CABA4B9A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0FE-BE8A-42A8-AF0D-28C00CB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F1C-4EFE-45EA-BBC4-CAD01522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7D16-7058-45E4-928A-BC2CFE28E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wanda.williams\My Documents\My Pictures\Microsoft Clip Organizer\j03237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 rot="16200000">
            <a:off x="4197960" y="2654640"/>
            <a:ext cx="4729320" cy="36766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Here 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Scroo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The only thing you can take to the grave is what you give during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wanda.williams\Local Settings\Temporary Internet Files\Content.IE5\LX2YN4OC\MCBD07752_0000[1].wmf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 rot="16200000">
            <a:off x="5979240" y="3692880"/>
            <a:ext cx="3662280" cy="26668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a5a5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L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O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e live on in the past, the  present and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25:11Z</dcterms:created>
  <dc:creator>wanda.williams</dc:creator>
  <dc:description/>
  <dc:language>en-US</dc:language>
  <cp:lastModifiedBy> </cp:lastModifiedBy>
  <dcterms:modified xsi:type="dcterms:W3CDTF">2009-12-10T23:35:19Z</dcterms:modified>
  <cp:revision>8</cp:revision>
  <dc:subject/>
  <dc:title>Slide 1</dc:title>
</cp:coreProperties>
</file>